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1DA1-36A2-42C4-A0C4-C6E9C714B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178A-8B1F-46FB-B2FD-1E79A735C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9C17-A700-442C-871E-DC090CF9D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878C-E8FA-464E-8A11-7A767E0F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36D4-9FF3-4593-8826-A1844A3A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42C4-3E0D-4DF2-9FDA-805601007B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F5CEE-A3D6-41DF-A4D1-AB1EC9EB9C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CDC73-E415-418F-B341-DE4D64EF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FD27E-A0FE-4D8D-A9AA-DC809CA9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C5B9-C41C-4805-915E-F5FFC538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5D877-4DE7-4A88-BD12-D6227F2A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9D5CE-BAEA-4930-B9CA-7EE8D6F7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22DB6-F77E-4302-847E-F2FE7A6A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BE6F-39D0-480F-B517-A0F31160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1E279-C8C4-4EBF-9433-44CEB67A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4C495-91D6-4486-92CB-71FC8514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106A4-C68B-4C17-89BA-A599CCC2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0B514-B68D-4BE4-983B-ECFCFC84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95065-BAE7-4C44-A356-7080A3405C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BE8F-5269-4EB7-9D7F-FA48A0F7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9F02-CA9F-49BA-932B-01FCC814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4466-8FE2-439B-9CDE-6975CDCF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4C56-6126-43E8-99DC-31A06C94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BE5F-69B8-4734-9821-80F92CB1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504F-3DAB-4ED6-AD5C-949EAF35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1723-C005-4460-B4B4-C31B8C07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5C90-6A3C-42D7-80B6-C6061AA9E2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5099-52DC-4285-9F73-435E713B76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0" r="18374" b="0"/>
          <a:stretch/>
        </p:blipFill>
        <p:spPr>
          <a:xfrm>
            <a:off x="214200" y="704880"/>
            <a:ext cx="8929800" cy="6153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 rot="16200000">
            <a:off x="95040" y="680400"/>
            <a:ext cx="5605560" cy="579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17440" y="5516640"/>
            <a:ext cx="1069920" cy="74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179280" y="1717560"/>
            <a:ext cx="72741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Financial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Month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ir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ef Finan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600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iginal financial target for ye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927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us’ Sustainability funding recei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509k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financial targ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418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"/>
          <p:cNvSpPr/>
          <p:nvPr/>
        </p:nvSpPr>
        <p:spPr>
          <a:xfrm>
            <a:off x="6545160" y="263700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-Point Star 5"/>
          <p:cNvSpPr/>
          <p:nvPr/>
        </p:nvSpPr>
        <p:spPr>
          <a:xfrm>
            <a:off x="7956720" y="3500280"/>
            <a:ext cx="287280" cy="231840"/>
          </a:xfrm>
          <a:custGeom>
            <a:avLst/>
            <a:gdLst/>
            <a:ahLst/>
            <a:rect l="l" t="t" r="r" b="b"/>
            <a:pathLst>
              <a:path w="288032" h="231867">
                <a:moveTo>
                  <a:pt x="0" y="88565"/>
                </a:moveTo>
                <a:lnTo>
                  <a:pt x="110019" y="88566"/>
                </a:lnTo>
                <a:lnTo>
                  <a:pt x="144016" y="0"/>
                </a:lnTo>
                <a:lnTo>
                  <a:pt x="178013" y="88566"/>
                </a:lnTo>
                <a:lnTo>
                  <a:pt x="288032" y="88565"/>
                </a:lnTo>
                <a:lnTo>
                  <a:pt x="199024" y="143301"/>
                </a:lnTo>
                <a:lnTo>
                  <a:pt x="233023" y="231866"/>
                </a:lnTo>
                <a:lnTo>
                  <a:pt x="144016" y="177129"/>
                </a:lnTo>
                <a:lnTo>
                  <a:pt x="55009" y="231866"/>
                </a:lnTo>
                <a:lnTo>
                  <a:pt x="89008" y="143301"/>
                </a:lnTo>
                <a:lnTo>
                  <a:pt x="0" y="885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717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continued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1,183k sur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ical adjustments ‘added back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1,575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against targ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392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we hit our targ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-Point Star 5"/>
          <p:cNvSpPr/>
          <p:nvPr/>
        </p:nvSpPr>
        <p:spPr>
          <a:xfrm>
            <a:off x="6770520" y="3435480"/>
            <a:ext cx="346320" cy="314280"/>
          </a:xfrm>
          <a:custGeom>
            <a:avLst/>
            <a:gdLst/>
            <a:ahLst/>
            <a:rect l="l" t="t" r="r" b="b"/>
            <a:pathLst>
              <a:path w="344812" h="313349">
                <a:moveTo>
                  <a:pt x="0" y="119688"/>
                </a:moveTo>
                <a:lnTo>
                  <a:pt x="131707" y="119689"/>
                </a:lnTo>
                <a:lnTo>
                  <a:pt x="172406" y="0"/>
                </a:lnTo>
                <a:lnTo>
                  <a:pt x="213105" y="119689"/>
                </a:lnTo>
                <a:lnTo>
                  <a:pt x="344812" y="119688"/>
                </a:lnTo>
                <a:lnTo>
                  <a:pt x="238258" y="193660"/>
                </a:lnTo>
                <a:lnTo>
                  <a:pt x="278959" y="313348"/>
                </a:lnTo>
                <a:lnTo>
                  <a:pt x="172406" y="239376"/>
                </a:lnTo>
                <a:lnTo>
                  <a:pt x="65853" y="313348"/>
                </a:lnTo>
                <a:lnTo>
                  <a:pt x="106554" y="193660"/>
                </a:lnTo>
                <a:lnTo>
                  <a:pt x="0" y="1196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2462040"/>
            <a:ext cx="493560" cy="493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1741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15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Total Target m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y costs £1.59m compared to £2.2m ce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Improvement Programme - £2.5m saved against £3.7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spend £5.9m spend in line with Trust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11040" y="234792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355680" y="4653000"/>
            <a:ext cx="647640" cy="77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255600" y="3716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 Louise</dc:creator>
  <dc:description/>
  <dc:language>en-US</dc:language>
  <cp:lastModifiedBy>Wilson Claire (RBQ)</cp:lastModifiedBy>
  <cp:lastPrinted>2014-02-19T14:11:01Z</cp:lastPrinted>
  <dcterms:modified xsi:type="dcterms:W3CDTF">2017-05-31T17:36:27Z</dcterms:modified>
  <cp:revision>264</cp:revision>
  <dc:subject/>
  <dc:title>Chief Executive’s  Team Brief or longer heading</dc:title>
</cp:coreProperties>
</file>